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CDB-8F8A-43A9-8F48-3DA75B7A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B3F-9135-48F3-A81D-F92A3327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26F-9620-4569-ABBB-F76B3A69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812-A321-47DB-832F-992F9798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CF9C-32BC-4509-9367-A899BE22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89E9-FE25-48CF-AEC6-0B8C01DE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DF13-DA25-48D9-ABD8-701DC1C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77A7-7E35-4F8A-9516-414837D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626B-3A25-4CD9-98A0-A6D9C020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527A-D16A-4E61-9169-4620D34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1F98-96E8-492D-BDEC-DFFE9DC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2DE-8A18-4F0F-B531-47B0C7DE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A031-3F3C-4A31-8E51-EEDB11F0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5A2-F508-472C-A6BF-2B6F3438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6C54-B9DD-4697-B892-AC0ED8C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D5DD-77CF-4BFD-A404-5F65903D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84A8-1D5C-4385-A6E8-819964B4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FFD-90DA-4A42-B32A-130386EE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3D6-820D-4C53-9542-3AC0EF8E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AD2-B7E8-4451-A601-FD32B69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8C2-04D2-4302-A053-B61D70C2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161-4C3B-43AA-BC28-DB75E805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6F3-B24C-444D-B9A7-5A42A9C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DF1-A89E-4A7A-9307-DAE8158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83A-8498-4CED-A124-41332E45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7F9-2869-4F42-A2FF-72C1C35B6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tions with Aca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timulatory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remember things without necessarily knowing what they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well developed in autistic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use memory to mimic higher-level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, the material may be difficult to retr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ly use only one problem solv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use this strategy in every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regardless  of whether or not it is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problems with communication m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 able to communicate due to delays in develop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the desire to commun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eye contact while communic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 to respond to others’ gestures and facial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words uttered by someone else with no understanding of th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pronouns (use You instead of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monotone voice regardless of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members and professionals may not be able to judge whether or not the student is eng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imulatory Behav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clapping or 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s with social 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 disruption for other studen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heightened senso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ble to hear sounds that cannot be heard to a person without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find the tag on a shirt irrit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ensory inputs may be distracting to th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20:34:35Z</dcterms:created>
  <dc:creator>Amanda Quail</dc:creator>
  <dc:description/>
  <dc:language>en-US</dc:language>
  <cp:lastModifiedBy>Amanda Quail</cp:lastModifiedBy>
  <dcterms:modified xsi:type="dcterms:W3CDTF">2010-06-13T20:35:25Z</dcterms:modified>
  <cp:revision>1</cp:revision>
  <dc:subject/>
  <dc:title>Complications with Academics</dc:title>
</cp:coreProperties>
</file>